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2E1D-9498-469F-86CE-639A7141B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98E6-718D-4894-A1E9-4140FBAAB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004A-5766-4AED-88BF-C52112E16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4E05-7A1A-465A-B021-0EDAB4414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7E5F-C7BA-4736-BCA2-A25F45A2A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4F97-72EE-4634-90CF-9DB37D8A5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0512-4A84-4B5D-8D5A-2911168F4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2778-02F2-491B-8A30-158D826D3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6952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6952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52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840" y="1976040"/>
            <a:ext cx="379152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52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840" y="4128120"/>
            <a:ext cx="379152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164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4520" y="1976040"/>
            <a:ext cx="250164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76040"/>
            <a:ext cx="250164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164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4520" y="4128120"/>
            <a:ext cx="250164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28120"/>
            <a:ext cx="250164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6952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69520" cy="411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520" cy="411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840" y="1976040"/>
            <a:ext cx="3791520" cy="411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6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52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976040"/>
            <a:ext cx="3791520" cy="411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52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520" cy="411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840" y="1976040"/>
            <a:ext cx="379152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840" y="4128120"/>
            <a:ext cx="379152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52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840" y="1976040"/>
            <a:ext cx="379152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69520" cy="196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d6ebd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69520" cy="411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-34452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4480" indent="-28584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4440" indent="-2314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716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6164280" y="6405480"/>
            <a:ext cx="338040" cy="227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Oval 6"/>
          <p:cNvSpPr/>
          <p:nvPr/>
        </p:nvSpPr>
        <p:spPr>
          <a:xfrm>
            <a:off x="6095880" y="6323040"/>
            <a:ext cx="338400" cy="22536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100000">
                <a:srgbClr val="2e892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Oval 7"/>
          <p:cNvSpPr/>
          <p:nvPr/>
        </p:nvSpPr>
        <p:spPr>
          <a:xfrm>
            <a:off x="6705720" y="6405480"/>
            <a:ext cx="338040" cy="227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Oval 8"/>
          <p:cNvSpPr/>
          <p:nvPr/>
        </p:nvSpPr>
        <p:spPr>
          <a:xfrm>
            <a:off x="6637320" y="6323040"/>
            <a:ext cx="339840" cy="22536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100000">
                <a:srgbClr val="2e892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Oval 9"/>
          <p:cNvSpPr/>
          <p:nvPr/>
        </p:nvSpPr>
        <p:spPr>
          <a:xfrm>
            <a:off x="7246800" y="6405480"/>
            <a:ext cx="339840" cy="227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Oval 10"/>
          <p:cNvSpPr/>
          <p:nvPr/>
        </p:nvSpPr>
        <p:spPr>
          <a:xfrm>
            <a:off x="7180200" y="6323040"/>
            <a:ext cx="338040" cy="22536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100000">
                <a:srgbClr val="2e892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7790040" y="6405480"/>
            <a:ext cx="338040" cy="227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7721640" y="6323040"/>
            <a:ext cx="338040" cy="22536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100000">
                <a:srgbClr val="2e892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Oval 13"/>
          <p:cNvSpPr/>
          <p:nvPr/>
        </p:nvSpPr>
        <p:spPr>
          <a:xfrm>
            <a:off x="8329680" y="6405480"/>
            <a:ext cx="339480" cy="227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8263080" y="6323040"/>
            <a:ext cx="339480" cy="22536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100000">
                <a:srgbClr val="2e892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ractions With Like Denominator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dding and Subtracting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rminology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80880" y="19051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decimals, fractions repres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numbers.  A fraction is usually a number that is between 0 and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447920" y="3429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erator - number on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066680" y="4038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ominator - number on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7"/>
          <p:cNvSpPr/>
          <p:nvPr/>
        </p:nvSpPr>
        <p:spPr>
          <a:xfrm>
            <a:off x="914400" y="403848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o add or subtract fractions with like denominators: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69520" cy="411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4520" indent="-34452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If the denominators are already the same, then you’re ready to add or subtract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dd or subtract the numerators. Keep the denominators the sam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mplify (reduce) the fraction, if possibl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If you end up with an improper fraction, change it to a mixed number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-30528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685800" y="1447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>
            <a:off x="457200" y="2590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533520" y="26668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2133720" y="20574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3200400" y="15238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2895480" y="25909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3200400" y="2666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4724280" y="21337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563868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6019920" y="1600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6019920" y="2590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1752480" y="4191120"/>
            <a:ext cx="4572000" cy="1068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nswer cannot be reduced any fur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609480" y="4572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4"/>
          <p:cNvSpPr/>
          <p:nvPr/>
        </p:nvSpPr>
        <p:spPr>
          <a:xfrm>
            <a:off x="228600" y="1371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04920" y="12952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>
            <a:off x="1752480" y="13716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>
            <a:off x="2362320" y="1371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2666880" y="5335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2438280" y="12952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3657600" y="9144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1"/>
          <p:cNvSpPr/>
          <p:nvPr/>
        </p:nvSpPr>
        <p:spPr>
          <a:xfrm>
            <a:off x="4267080" y="13716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4648320" y="4572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4419720" y="121932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380880" y="2666880"/>
            <a:ext cx="640080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CF of 4 and 14 is 2, so we divide by 2 to red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5791320" y="914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6477120" y="8380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7086600" y="914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9"/>
          <p:cNvSpPr/>
          <p:nvPr/>
        </p:nvSpPr>
        <p:spPr>
          <a:xfrm>
            <a:off x="7848720" y="15238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8077320" y="6858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8077320" y="14479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533520" y="380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3"/>
          <p:cNvSpPr/>
          <p:nvPr/>
        </p:nvSpPr>
        <p:spPr>
          <a:xfrm>
            <a:off x="228600" y="1371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533520" y="12952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676520" y="838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743200" y="3808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2438280" y="13716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743200" y="12193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3886200" y="9144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"/>
          <p:cNvSpPr/>
          <p:nvPr/>
        </p:nvSpPr>
        <p:spPr>
          <a:xfrm>
            <a:off x="4724280" y="1371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4648320" y="4572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4876920" y="12952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304920" y="2133720"/>
            <a:ext cx="7924680" cy="94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n improper fraction (the top is bigger than the bottom), so we want to change it to a mixed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304920" y="3352680"/>
            <a:ext cx="7924680" cy="58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o this, divide the bottom into the t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762120" y="48006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6"/>
          <p:cNvSpPr/>
          <p:nvPr/>
        </p:nvSpPr>
        <p:spPr>
          <a:xfrm flipV="1">
            <a:off x="1295280" y="49528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7"/>
          <p:cNvSpPr/>
          <p:nvPr/>
        </p:nvSpPr>
        <p:spPr>
          <a:xfrm>
            <a:off x="1295280" y="49528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1295280" y="48006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1676520" y="40384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1676520" y="54100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1"/>
          <p:cNvSpPr/>
          <p:nvPr/>
        </p:nvSpPr>
        <p:spPr>
          <a:xfrm>
            <a:off x="1219320" y="59436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1066680" y="62485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1676520" y="6019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3200400" y="4343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5"/>
          <p:cNvSpPr/>
          <p:nvPr/>
        </p:nvSpPr>
        <p:spPr>
          <a:xfrm>
            <a:off x="4952880" y="4343400"/>
            <a:ext cx="609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26"/>
          <p:cNvSpPr/>
          <p:nvPr/>
        </p:nvSpPr>
        <p:spPr>
          <a:xfrm>
            <a:off x="5486400" y="50292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7"/>
          <p:cNvSpPr/>
          <p:nvPr/>
        </p:nvSpPr>
        <p:spPr>
          <a:xfrm>
            <a:off x="5638680" y="4495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8"/>
          <p:cNvSpPr/>
          <p:nvPr/>
        </p:nvSpPr>
        <p:spPr>
          <a:xfrm>
            <a:off x="5638680" y="4952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-38124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ry Som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28600" y="3808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0" y="13716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0" y="12952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1219320" y="13716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828800" y="13716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2057400" y="4572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828800" y="12952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200400" y="9144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3962520" y="137160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152280" y="2590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0" y="35812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152280" y="34290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143000" y="30481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2133720" y="2666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8"/>
          <p:cNvSpPr/>
          <p:nvPr/>
        </p:nvSpPr>
        <p:spPr>
          <a:xfrm>
            <a:off x="1905120" y="358128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2133720" y="34290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3200400" y="30481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4038480" y="35812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228600" y="4572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23"/>
          <p:cNvSpPr/>
          <p:nvPr/>
        </p:nvSpPr>
        <p:spPr>
          <a:xfrm>
            <a:off x="0" y="54100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0" y="533412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1295280" y="487692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26"/>
          <p:cNvSpPr/>
          <p:nvPr/>
        </p:nvSpPr>
        <p:spPr>
          <a:xfrm>
            <a:off x="2057400" y="54100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2133720" y="44956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8"/>
          <p:cNvSpPr/>
          <p:nvPr/>
        </p:nvSpPr>
        <p:spPr>
          <a:xfrm>
            <a:off x="2133720" y="525780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9"/>
          <p:cNvSpPr/>
          <p:nvPr/>
        </p:nvSpPr>
        <p:spPr>
          <a:xfrm>
            <a:off x="3429000" y="49528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30"/>
          <p:cNvSpPr/>
          <p:nvPr/>
        </p:nvSpPr>
        <p:spPr>
          <a:xfrm>
            <a:off x="5105520" y="54100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1"/>
          <p:cNvSpPr/>
          <p:nvPr/>
        </p:nvSpPr>
        <p:spPr>
          <a:xfrm>
            <a:off x="4114800" y="5335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2"/>
          <p:cNvSpPr/>
          <p:nvPr/>
        </p:nvSpPr>
        <p:spPr>
          <a:xfrm>
            <a:off x="4114800" y="12193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3"/>
          <p:cNvSpPr/>
          <p:nvPr/>
        </p:nvSpPr>
        <p:spPr>
          <a:xfrm>
            <a:off x="4191120" y="2743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4"/>
          <p:cNvSpPr/>
          <p:nvPr/>
        </p:nvSpPr>
        <p:spPr>
          <a:xfrm>
            <a:off x="4191120" y="3429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5"/>
          <p:cNvSpPr/>
          <p:nvPr/>
        </p:nvSpPr>
        <p:spPr>
          <a:xfrm>
            <a:off x="4343400" y="4343400"/>
            <a:ext cx="91440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6"/>
          <p:cNvSpPr/>
          <p:nvPr/>
        </p:nvSpPr>
        <p:spPr>
          <a:xfrm>
            <a:off x="5410080" y="449568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7"/>
          <p:cNvSpPr/>
          <p:nvPr/>
        </p:nvSpPr>
        <p:spPr>
          <a:xfrm>
            <a:off x="5410080" y="5257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23:42:22Z</dcterms:created>
  <dc:creator>Administrator</dc:creator>
  <dc:description/>
  <dc:language>en-US</dc:language>
  <cp:lastModifiedBy>Home</cp:lastModifiedBy>
  <dcterms:modified xsi:type="dcterms:W3CDTF">2010-11-14T16:34:41Z</dcterms:modified>
  <cp:revision>12</cp:revision>
  <dc:subject/>
  <dc:title>Adding and Subtracting Like Fractions</dc:title>
</cp:coreProperties>
</file>